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B12-677C-432B-9658-FB5FF7E4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2054-4C41-45AA-A4D8-326733EE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B1C6-04E6-4547-A4EF-5D02AC3C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5F2-44A8-4A03-9206-F03C0C80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BE0-DFFA-46C8-8892-B09E38C4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1E61-F274-4270-B5A4-67B9BBBA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263A-D709-4A47-9ACB-2BD4CBB4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A6B-7C52-481C-AE0D-B67B7DFD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C61B-7E90-47D8-B052-BC731669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2832-FFF6-48A9-8663-77F8B646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C4A-604D-45AE-969C-DDE31BA6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851-2BA0-42DD-A6A1-19B5D3FE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09C5-98DD-4A15-BD64-8980AAE2E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fa.gov.il/MFA/MFAArchive/2000_2009/2001/9/Flora%20and%20Fauna%20in%20Israel" TargetMode="External"/><Relationship Id="rId2" Type="http://schemas.openxmlformats.org/officeDocument/2006/relationships/hyperlink" Target="http://www.worldatlas.com/webimage/countrys/asia/il.htm" TargetMode="External"/><Relationship Id="rId3" Type="http://schemas.openxmlformats.org/officeDocument/2006/relationships/hyperlink" Target="http://en.wikipedia.org/wiki/Israel" TargetMode="External"/><Relationship Id="rId4" Type="http://schemas.openxmlformats.org/officeDocument/2006/relationships/hyperlink" Target="https://www.cia.gov/library/publications/the-world-factbook/geos/is.html#Geo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4876920"/>
            <a:ext cx="3505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 Pandola &amp; Mallary Hink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486400" y="0"/>
            <a:ext cx="3657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nap ITC"/>
              </a:rPr>
              <a:t>Israel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nding Barack Obama A Le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estine group named Hamas sent letter via US politician visiting G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details about letters’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views Hamas as a terrorist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mas seized control of Gaza in 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fa.gov.il/MFA/MFAArchive/2000_2009/2001/9/Flora%20and%20Fauna%20in%20Is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orldatlas.com/webimage/countrys/asia/i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Is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cia.gov/library/publications/the-world-factbook/geos/is.html#G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haaretz.com/hasen/spages/968215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.wikipedia.org/wiki/Economy_of_Is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.wikipedia.org/wiki/History_of_Is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1569600"/>
            <a:ext cx="40384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Snap ITC"/>
              </a:rPr>
              <a:t>  </a:t>
            </a:r>
            <a:r>
              <a:rPr b="0" lang="en-US" sz="2800" spc="-1" strike="noStrike">
                <a:solidFill>
                  <a:srgbClr val="cc6600"/>
                </a:solidFill>
                <a:latin typeface="Snap ITC"/>
              </a:rPr>
              <a:t>Mostly de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Snap ITC"/>
              </a:rPr>
              <a:t>  </a:t>
            </a:r>
            <a:r>
              <a:rPr b="0" lang="en-US" sz="2800" spc="-1" strike="noStrike">
                <a:solidFill>
                  <a:srgbClr val="ff9900"/>
                </a:solidFill>
                <a:latin typeface="Snap ITC"/>
              </a:rPr>
              <a:t>Between Egypt and Leba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Snap ITC"/>
              </a:rPr>
              <a:t>  </a:t>
            </a:r>
            <a:r>
              <a:rPr b="0" lang="en-US" sz="2800" spc="-1" strike="noStrike">
                <a:solidFill>
                  <a:srgbClr val="ff9900"/>
                </a:solidFill>
                <a:latin typeface="Snap ITC"/>
              </a:rPr>
              <a:t>Slightly smaller than New Jers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3505320"/>
            <a:ext cx="40384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Snap ITC"/>
              </a:rPr>
              <a:t>  </a:t>
            </a:r>
            <a:r>
              <a:rPr b="0" lang="en-US" sz="2800" spc="-1" strike="noStrike">
                <a:solidFill>
                  <a:srgbClr val="ff9900"/>
                </a:solidFill>
                <a:latin typeface="Snap ITC"/>
              </a:rPr>
              <a:t>Borders the Mediterran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81280" y="304920"/>
            <a:ext cx="5334120" cy="18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Snap ITC"/>
              </a:rPr>
              <a:t>The 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d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8188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e coastal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lling h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ber, Potash, Copper Ore, Natural Gas, Phosphate, Magnesium, Clay, S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52480" y="533520"/>
            <a:ext cx="4838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Snap ITC"/>
              </a:rPr>
              <a:t>Natural Resource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mostly desert, vegetation is 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mammal wildlife is nocturnal because Israel is de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vegetation is cac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pecies of reptiles and scorp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304920"/>
            <a:ext cx="762012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Snap ITC"/>
              </a:rPr>
              <a:t>Wildlife and Vege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Snap ITC"/>
              <a:ea typeface="Snap ITC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710560" y="0"/>
            <a:ext cx="433440" cy="5972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80880" cy="5972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380880" y="0"/>
            <a:ext cx="8382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5520" y="0"/>
            <a:ext cx="89884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liamentary Democra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ident is Shimon P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ime minister is Ehud Olm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is about 7,112,359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fe expectancy for men is 78 years and women is 82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880" y="0"/>
            <a:ext cx="5791320" cy="18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Snap ITC"/>
              </a:rPr>
              <a:t>Govern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ed after 55 years of effort to create a Jewish hom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File:1 New Israeli Sheqel (1994-199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xed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or in natur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ends on im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cy – New Israeli Shek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ble Lands Muse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d near the Israel Museum in Jerusa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hibits antiquities from various Middle Eastern cultures mentioned in the B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7:22:38Z</dcterms:created>
  <dc:creator>josephapandola</dc:creator>
  <dc:description/>
  <dc:language>en-US</dc:language>
  <cp:lastModifiedBy>josephapandola</cp:lastModifiedBy>
  <dcterms:modified xsi:type="dcterms:W3CDTF">2009-02-19T17:49:22Z</dcterms:modified>
  <cp:revision>12</cp:revision>
  <dc:subject/>
  <dc:title>Slide 1</dc:title>
</cp:coreProperties>
</file>